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23.xml.rels" ContentType="application/vnd.openxmlformats-package.relationships+xml"/>
  <Override PartName="/ppt/slides/_rels/slide93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24.xml.rels" ContentType="application/vnd.openxmlformats-package.relationships+xml"/>
  <Override PartName="/ppt/slides/_rels/slide94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03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1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17.xml" ContentType="application/vnd.openxmlformats-officedocument.presentationml.slide+xml"/>
  <Override PartName="/ppt/slides/slide72.xml" ContentType="application/vnd.openxmlformats-officedocument.presentationml.slide+xml"/>
  <Override PartName="/ppt/slides/slide116.xml" ContentType="application/vnd.openxmlformats-officedocument.presentationml.slide+xml"/>
  <Override PartName="/ppt/slides/slide71.xml" ContentType="application/vnd.openxmlformats-officedocument.presentationml.slide+xml"/>
  <Override PartName="/ppt/slides/slide79.xml" ContentType="application/vnd.openxmlformats-officedocument.presentationml.slide+xml"/>
  <Override PartName="/ppt/slides/slide12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122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11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  <p:sldId id="359" r:id="rId109"/>
    <p:sldId id="360" r:id="rId110"/>
    <p:sldId id="361" r:id="rId111"/>
    <p:sldId id="362" r:id="rId112"/>
    <p:sldId id="363" r:id="rId113"/>
    <p:sldId id="364" r:id="rId114"/>
    <p:sldId id="365" r:id="rId115"/>
    <p:sldId id="366" r:id="rId116"/>
    <p:sldId id="367" r:id="rId117"/>
    <p:sldId id="368" r:id="rId118"/>
    <p:sldId id="369" r:id="rId119"/>
    <p:sldId id="370" r:id="rId120"/>
    <p:sldId id="371" r:id="rId121"/>
    <p:sldId id="372" r:id="rId122"/>
    <p:sldId id="373" r:id="rId123"/>
    <p:sldId id="374" r:id="rId124"/>
    <p:sldId id="375" r:id="rId125"/>
    <p:sldId id="376" r:id="rId126"/>
    <p:sldId id="377" r:id="rId127"/>
    <p:sldId id="378" r:id="rId128"/>
    <p:sldId id="379" r:id="rId1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slide" Target="slides/slide104.xml"/><Relationship Id="rId110" Type="http://schemas.openxmlformats.org/officeDocument/2006/relationships/slide" Target="slides/slide105.xml"/><Relationship Id="rId111" Type="http://schemas.openxmlformats.org/officeDocument/2006/relationships/slide" Target="slides/slide106.xml"/><Relationship Id="rId112" Type="http://schemas.openxmlformats.org/officeDocument/2006/relationships/slide" Target="slides/slide107.xml"/><Relationship Id="rId113" Type="http://schemas.openxmlformats.org/officeDocument/2006/relationships/slide" Target="slides/slide108.xml"/><Relationship Id="rId114" Type="http://schemas.openxmlformats.org/officeDocument/2006/relationships/slide" Target="slides/slide109.xml"/><Relationship Id="rId115" Type="http://schemas.openxmlformats.org/officeDocument/2006/relationships/slide" Target="slides/slide110.xml"/><Relationship Id="rId116" Type="http://schemas.openxmlformats.org/officeDocument/2006/relationships/slide" Target="slides/slide111.xml"/><Relationship Id="rId117" Type="http://schemas.openxmlformats.org/officeDocument/2006/relationships/slide" Target="slides/slide112.xml"/><Relationship Id="rId118" Type="http://schemas.openxmlformats.org/officeDocument/2006/relationships/slide" Target="slides/slide113.xml"/><Relationship Id="rId119" Type="http://schemas.openxmlformats.org/officeDocument/2006/relationships/slide" Target="slides/slide114.xml"/><Relationship Id="rId120" Type="http://schemas.openxmlformats.org/officeDocument/2006/relationships/slide" Target="slides/slide115.xml"/><Relationship Id="rId121" Type="http://schemas.openxmlformats.org/officeDocument/2006/relationships/slide" Target="slides/slide116.xml"/><Relationship Id="rId122" Type="http://schemas.openxmlformats.org/officeDocument/2006/relationships/slide" Target="slides/slide117.xml"/><Relationship Id="rId123" Type="http://schemas.openxmlformats.org/officeDocument/2006/relationships/slide" Target="slides/slide118.xml"/><Relationship Id="rId124" Type="http://schemas.openxmlformats.org/officeDocument/2006/relationships/slide" Target="slides/slide119.xml"/><Relationship Id="rId125" Type="http://schemas.openxmlformats.org/officeDocument/2006/relationships/slide" Target="slides/slide120.xml"/><Relationship Id="rId126" Type="http://schemas.openxmlformats.org/officeDocument/2006/relationships/slide" Target="slides/slide121.xml"/><Relationship Id="rId127" Type="http://schemas.openxmlformats.org/officeDocument/2006/relationships/slide" Target="slides/slide122.xml"/><Relationship Id="rId128" Type="http://schemas.openxmlformats.org/officeDocument/2006/relationships/slide" Target="slides/slide123.xml"/><Relationship Id="rId129" Type="http://schemas.openxmlformats.org/officeDocument/2006/relationships/slide" Target="slides/slide124.xml"/><Relationship Id="rId1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26F9-7076-42B1-9B65-045643056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E9CB-04AE-411A-A608-9B9E96FB0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A315-8B78-451E-B505-63F18595A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ABF2-CFA9-449E-AC88-9827CCA91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C49ED-7D3B-4823-9347-86BE5B70C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6BECF-F189-4572-8B97-760D3EEBF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A623A-BD83-40FA-BC26-3D508D27F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558D1-8BBD-4E3F-B2DE-25E801207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6102D-4732-41E2-9C35-7714BDCAD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093BE-4546-4A55-9E7B-ECB20247A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3F3A3-A9DF-4EE6-A75A-E2ECEA57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0805-954D-403D-808C-52B414527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F78A7-0912-4819-8EA3-55E1ACD4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F4375-075A-421C-9DC7-951CB010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E1291-0729-4348-8CAC-AF38B34BF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510CB-488F-4409-934C-E09D9AE03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8AC1B-6F6B-4389-8531-2AC222E75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77EF9-0F7D-4AC1-B250-33DC9117A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17196-797E-477D-9BCA-30A48B5C3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C0CAF-FDCA-4FFA-A330-B351E7527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1C056-6368-45EC-971F-3C8900C8E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28380-2349-4079-B52F-81B2BB62F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FD6C-0820-4AF2-A0CB-2BA5F9A6C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7B258-31F9-4F5F-BD72-B8585490A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7C12F-6FCE-44AF-9B8D-50B6240C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F7306-AE23-4F48-82D0-C88C5329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F57EB-CF95-44D5-B7F5-3AC0506A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8DBEC-02BF-42A0-98D2-AD8997F12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59878-C4CD-4875-B414-30C849BDD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A40AD-3B67-4DA4-8625-53E10C59F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66331-1EE2-4443-862C-C12EDDE48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295E0-70EC-4020-B65C-6CD9D8293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FB0AC-B303-4626-8413-A236688EA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CC4A-F89A-4741-9A12-CFFF80EF7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793C6-46F0-4B8B-947C-6FA1EE405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7FD04-BE24-44D7-961C-731170032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184D7-9D08-4F72-9B71-7A0C16C79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ECC7E-A884-446C-8644-DEC4129D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632A8-CB4A-4989-A5EC-9305A5BC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6C4DB-132F-4527-A7E4-B85CEC38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C92AA-8C21-4FD6-A60D-A7A61D02D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EBE5C-5BC5-40B6-96FA-F7F979807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0C462-F1F2-4EDE-BA3C-E09672EED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750B-A5ED-430B-A2F4-2E93AD64B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0059-DBFC-4CC2-A446-32CF43264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93E0-F656-40EB-9454-DAD25D1B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D577-38AD-4242-992A-E5A0075C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47A5-70E9-49FE-9145-8EF33894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9"/>
            </a:gs>
            <a:gs pos="50000">
              <a:srgbClr val="000000"/>
            </a:gs>
            <a:gs pos="100000">
              <a:srgbClr val="ffffd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E838A-6008-40FF-803C-60C8F00F61CE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001a"/>
            </a:gs>
            <a:gs pos="50000">
              <a:srgbClr val="ffffff"/>
            </a:gs>
            <a:gs pos="100000">
              <a:srgbClr val="86001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925B0-4CBC-43E5-B784-48A1623E214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8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d9"/>
            </a:gs>
            <a:gs pos="50000">
              <a:srgbClr val="000000"/>
            </a:gs>
            <a:gs pos="100000">
              <a:srgbClr val="ffffd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6A55E-2BB5-4D18-A542-6BBE5636B0F0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001a"/>
            </a:gs>
            <a:gs pos="50000">
              <a:srgbClr val="ffffff"/>
            </a:gs>
            <a:gs pos="100000">
              <a:srgbClr val="86001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58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ff66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013FC-075B-44D5-A01A-AA2850ECC4B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9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 9-weeks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432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C.  Sharing control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15328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Environment Protection Agency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4"/>
          <p:cNvSpPr/>
          <p:nvPr/>
        </p:nvSpPr>
        <p:spPr>
          <a:xfrm>
            <a:off x="304920" y="3581280"/>
            <a:ext cx="83818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at does FCC stand for?</a:t>
            </a:r>
            <a:br>
              <a:rPr sz="3500"/>
            </a:b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8951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Federal Communications Commission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4"/>
          <p:cNvSpPr/>
          <p:nvPr/>
        </p:nvSpPr>
        <p:spPr>
          <a:xfrm>
            <a:off x="304920" y="3581280"/>
            <a:ext cx="83818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at does FTC stand for?</a:t>
            </a:r>
            <a:br>
              <a:rPr sz="3500"/>
            </a:br>
            <a:br>
              <a:rPr sz="3500"/>
            </a:b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560" y="28951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Federal Trade Commission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4"/>
          <p:cNvSpPr/>
          <p:nvPr/>
        </p:nvSpPr>
        <p:spPr>
          <a:xfrm>
            <a:off x="152280" y="62485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Interstate highways, postal service and national defense are all examples of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Supply and demand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Public goods and service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Economic activity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businesses</a:t>
            </a:r>
            <a:br>
              <a:rPr sz="3500"/>
            </a:b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B.  Public goods and services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4"/>
          <p:cNvSpPr/>
          <p:nvPr/>
        </p:nvSpPr>
        <p:spPr>
          <a:xfrm>
            <a:off x="152280" y="62485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Banks, savings and loans, credit unions and securities brokerages are all examples of a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Private financial institut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government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Consumer sovereignty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Public good and service</a:t>
            </a:r>
            <a:br>
              <a:rPr sz="3500"/>
            </a:b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80520" y="29718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A.  Private financial institute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4"/>
          <p:cNvSpPr/>
          <p:nvPr/>
        </p:nvSpPr>
        <p:spPr>
          <a:xfrm>
            <a:off x="152280" y="62485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Private financial institutes receive deposits and make –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loan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payment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good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services</a:t>
            </a:r>
            <a:br>
              <a:rPr sz="3500"/>
            </a:b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4"/>
          <p:cNvSpPr/>
          <p:nvPr/>
        </p:nvSpPr>
        <p:spPr>
          <a:xfrm>
            <a:off x="228600" y="571500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ich of the following is NOT a function of political parties?  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Monitors the actions of officeholders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Educating the electorate about campaig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Paying people to vote for a particula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didat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Help candidates win elections </a:t>
            </a:r>
            <a:br>
              <a:rPr sz="3500"/>
            </a:b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80520" y="2514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A.  loans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4"/>
          <p:cNvSpPr/>
          <p:nvPr/>
        </p:nvSpPr>
        <p:spPr>
          <a:xfrm>
            <a:off x="152280" y="525780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at determines price?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Interaction of supply and demand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Who acquires goods and service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The value of what is given up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Resources available </a:t>
            </a:r>
            <a:br>
              <a:rPr sz="3500"/>
            </a:b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286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A.  Interaction of supply and </a:t>
            </a: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demand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4"/>
          <p:cNvSpPr/>
          <p:nvPr/>
        </p:nvSpPr>
        <p:spPr>
          <a:xfrm>
            <a:off x="152280" y="525780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at does price determine?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Interaction of supply and demand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Who acquires goods and service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The value of what is given up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Resources available </a:t>
            </a:r>
            <a:br>
              <a:rPr sz="3500"/>
            </a:b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590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B.  Who acquires goods and </a:t>
            </a: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4"/>
          <p:cNvSpPr/>
          <p:nvPr/>
        </p:nvSpPr>
        <p:spPr>
          <a:xfrm>
            <a:off x="152280" y="525780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ich is NOT a type of business ownership?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partnership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corporation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proprietorship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entrepreneurs </a:t>
            </a:r>
            <a:br>
              <a:rPr sz="3500"/>
            </a:b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590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D.  entrepreneurs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4"/>
          <p:cNvSpPr/>
          <p:nvPr/>
        </p:nvSpPr>
        <p:spPr>
          <a:xfrm>
            <a:off x="152280" y="525780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o plays an important role in all three business organizations?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partnership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corporation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proprietorship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entrepreneurs </a:t>
            </a: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2590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D.  entrepreneurs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4"/>
          <p:cNvSpPr/>
          <p:nvPr/>
        </p:nvSpPr>
        <p:spPr>
          <a:xfrm>
            <a:off x="152280" y="525780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at is selecting an item or action from a set of possible alternatives?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choic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incentiv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pric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demand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520" y="3200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C.  Paying people to vote for a </a:t>
            </a: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particular candidate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28195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A.  choice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4"/>
          <p:cNvSpPr/>
          <p:nvPr/>
        </p:nvSpPr>
        <p:spPr>
          <a:xfrm>
            <a:off x="152280" y="525780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at is the amount of money exchanged for a good or service?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choic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incentiv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pric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demand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3160" y="29718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C.  price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4"/>
          <p:cNvSpPr/>
          <p:nvPr/>
        </p:nvSpPr>
        <p:spPr>
          <a:xfrm>
            <a:off x="152280" y="525780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Name the economy where markets are allowed to operate without undue interference from the government.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enterpris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Free market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Mixed economy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Command econom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80520" y="29718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B.  Free market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571500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at type of system characterizes the American political process?  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One-party system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Two-party system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Multi-party system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The most experienced candidate </a:t>
            </a:r>
            <a:br>
              <a:rPr sz="3500"/>
            </a:b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160" y="28951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B.  Two-party system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4"/>
          <p:cNvSpPr/>
          <p:nvPr/>
        </p:nvSpPr>
        <p:spPr>
          <a:xfrm>
            <a:off x="228600" y="6095880"/>
            <a:ext cx="84582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at is required before a citizen may vote?  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Voter registration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15 years of age by day of general election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Lobbying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Expressing an interest</a:t>
            </a:r>
            <a:br>
              <a:rPr sz="3500"/>
            </a:b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31237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A.  Voter registration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4"/>
          <p:cNvSpPr/>
          <p:nvPr/>
        </p:nvSpPr>
        <p:spPr>
          <a:xfrm>
            <a:off x="228600" y="6095880"/>
            <a:ext cx="8686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All of the following are qualifications to register and vote in Virginia EXCEPT:  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Citizen of the United State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Resident of Virginia and precinct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Hold a job in Virginia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18 years of age by day of general election </a:t>
            </a:r>
            <a:br>
              <a:rPr sz="3500"/>
            </a:b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520" y="3048120"/>
            <a:ext cx="85345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Hold a job in Virgin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4"/>
          <p:cNvSpPr/>
          <p:nvPr/>
        </p:nvSpPr>
        <p:spPr>
          <a:xfrm>
            <a:off x="228600" y="5715000"/>
            <a:ext cx="86104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Persons CANNOT register to vote in Virginia –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In person at the registrar’s offic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In person at the Division of Motor Vehicle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By telephon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By mail application </a:t>
            </a:r>
            <a:br>
              <a:rPr sz="3500"/>
            </a:b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520" y="32767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Elections, Parties, and Pressure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CE.5 a-f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CE.7 c-d</a:t>
            </a:r>
            <a:br>
              <a:rPr sz="3500"/>
            </a:br>
            <a:br>
              <a:rPr sz="3500"/>
            </a:b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380880" y="495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American Free Market System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CE.9 a-c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CE.10 a-c</a:t>
            </a: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CE.11 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2590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C.  By telephone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4"/>
          <p:cNvSpPr/>
          <p:nvPr/>
        </p:nvSpPr>
        <p:spPr>
          <a:xfrm>
            <a:off x="228600" y="571500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at is a basic responsibility of citizenship?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Voting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Obeying the law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Lobbying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Expressing </a:t>
            </a:r>
            <a:br>
              <a:rPr sz="3500"/>
            </a:b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29718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A.  Voting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4"/>
          <p:cNvSpPr/>
          <p:nvPr/>
        </p:nvSpPr>
        <p:spPr>
          <a:xfrm>
            <a:off x="228600" y="6477120"/>
            <a:ext cx="8686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y have campaign finance laws been reformed?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Charities donate to their favorite candidate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Rising costs limit who can afford to run 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fic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Individuals refused to donate money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Candidates could not afford the applicatio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e </a:t>
            </a:r>
            <a:br>
              <a:rPr sz="3500"/>
            </a:b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5909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B.  Rising costs limit who can </a:t>
            </a: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afford to run for office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4"/>
          <p:cNvSpPr/>
          <p:nvPr/>
        </p:nvSpPr>
        <p:spPr>
          <a:xfrm>
            <a:off x="228600" y="571500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Voter participation is usually greatest in --  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Local election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State election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Congressional election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Presidential elections</a:t>
            </a: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3200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D.  Presidential elections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4"/>
          <p:cNvSpPr/>
          <p:nvPr/>
        </p:nvSpPr>
        <p:spPr>
          <a:xfrm>
            <a:off x="228600" y="571500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Rising campaign costs encouraged the development of what?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Third partie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Political action committee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Nationwide boycotts of election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Low income candidates seeking office</a:t>
            </a:r>
            <a:br>
              <a:rPr sz="3500"/>
            </a:b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29718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B.  Political action committees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4"/>
          <p:cNvSpPr/>
          <p:nvPr/>
        </p:nvSpPr>
        <p:spPr>
          <a:xfrm>
            <a:off x="228600" y="571500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In the electoral college process, the slate of electors for each state is chosen by what?  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Poplar vot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Number of cities in the stat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State’s Congressional representation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Is the same for every state </a:t>
            </a:r>
            <a:br>
              <a:rPr sz="3500"/>
            </a:b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4"/>
          <p:cNvSpPr/>
          <p:nvPr/>
        </p:nvSpPr>
        <p:spPr>
          <a:xfrm>
            <a:off x="228600" y="571500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at term means seeking to influence legislators to introduce or vote for or against a bill?  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Participating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Joining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Lobbying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Expressing </a:t>
            </a:r>
            <a:br>
              <a:rPr sz="3500"/>
            </a:b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80520" y="28951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A.  Poplar vote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4"/>
          <p:cNvSpPr/>
          <p:nvPr/>
        </p:nvSpPr>
        <p:spPr>
          <a:xfrm>
            <a:off x="228600" y="5715000"/>
            <a:ext cx="85345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ich is NOT a similarity between political parties?  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Both organize to win election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Both influence public policie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Both develop the same platform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Both define themselves in a way that win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jority support by appealing to center </a:t>
            </a:r>
            <a:br>
              <a:rPr sz="3500"/>
            </a:b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0880" y="2743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C.  Both develop same platforms  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4"/>
          <p:cNvSpPr/>
          <p:nvPr/>
        </p:nvSpPr>
        <p:spPr>
          <a:xfrm>
            <a:off x="228600" y="6400800"/>
            <a:ext cx="8915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ich of the following is true of third parties?  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They introduce new ideas or press for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icular issu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They appeal to all voter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They never have extremist idea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They win a majority of elections, because the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volve a political personality  </a:t>
            </a:r>
            <a:br>
              <a:rPr sz="3500"/>
            </a:b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30592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  They introduce new ideas and pres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a particular iss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4"/>
          <p:cNvSpPr/>
          <p:nvPr/>
        </p:nvSpPr>
        <p:spPr>
          <a:xfrm>
            <a:off x="228600" y="571500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ich of the following is NOT a strategy informed citizens use to make choices in elections?  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Identifying propaganda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Evaluating source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Confusing fact with opinion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Detecting bias </a:t>
            </a:r>
            <a:br>
              <a:rPr sz="3500"/>
            </a:b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3160" y="23623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C.  Confusing fact with opinion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4"/>
          <p:cNvSpPr/>
          <p:nvPr/>
        </p:nvSpPr>
        <p:spPr>
          <a:xfrm>
            <a:off x="228600" y="571500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at group influences elections by identifying candidates, writing editorials, creating political cartoons and broadcasting different points of view?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citizen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lobbyist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Political action committee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mass media </a:t>
            </a:r>
            <a:br>
              <a:rPr sz="3500"/>
            </a:b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3160" y="28951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D.  Mass media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4"/>
          <p:cNvSpPr/>
          <p:nvPr/>
        </p:nvSpPr>
        <p:spPr>
          <a:xfrm>
            <a:off x="228600" y="6324480"/>
            <a:ext cx="77724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All of the following are ways the media plays an important role in setting the public agenda EXCEPT: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Focusing public attention on select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Offering a forum in which oppos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ewpoints are communicated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Holding government official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ountable to the public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Gathering petitions </a:t>
            </a:r>
            <a:br>
              <a:rPr sz="3500"/>
            </a:b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C.  Lobbying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30481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D.  Gathering petitions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4"/>
          <p:cNvSpPr/>
          <p:nvPr/>
        </p:nvSpPr>
        <p:spPr>
          <a:xfrm>
            <a:off x="228600" y="571500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The United States economy is a -- ?  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Mixed economy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Command economy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Government controlled economy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Traditional economy</a:t>
            </a:r>
            <a:br>
              <a:rPr sz="3500"/>
            </a:b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3160" y="22093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A.  Mixed economy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4"/>
          <p:cNvSpPr/>
          <p:nvPr/>
        </p:nvSpPr>
        <p:spPr>
          <a:xfrm>
            <a:off x="228600" y="594360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A command economy is one that –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Has central ownership of property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ource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Is the most common economic system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day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Has a greater government role than in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ee market economy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Has private ownership of property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ources </a:t>
            </a:r>
            <a:br>
              <a:rPr sz="3500"/>
            </a:b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2590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A.  Has central ownership of </a:t>
            </a: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property and resources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4"/>
          <p:cNvSpPr/>
          <p:nvPr/>
        </p:nvSpPr>
        <p:spPr>
          <a:xfrm>
            <a:off x="228600" y="571500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In a mixed economy the government --  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Makes decisions for the public sector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Adjusts supply and demand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Limits individual choic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Centrally plans the economy</a:t>
            </a:r>
            <a:br>
              <a:rPr sz="3500"/>
            </a:b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352320"/>
            <a:ext cx="815328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D.  Centrally plans the economy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4"/>
          <p:cNvSpPr/>
          <p:nvPr/>
        </p:nvSpPr>
        <p:spPr>
          <a:xfrm>
            <a:off x="228600" y="571500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The most common economic system today is –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Central ownership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Mixed economy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Command economy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Free market</a:t>
            </a:r>
            <a:br>
              <a:rPr sz="3500"/>
            </a:b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437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B.  Mixed economy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4"/>
          <p:cNvSpPr/>
          <p:nvPr/>
        </p:nvSpPr>
        <p:spPr>
          <a:xfrm>
            <a:off x="228600" y="571500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The following are characteristics of the United States economy EXCEPT:  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Free market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Private party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profit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Central ownership </a:t>
            </a:r>
            <a:br>
              <a:rPr sz="3500"/>
            </a:b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4"/>
          <p:cNvSpPr/>
          <p:nvPr/>
        </p:nvSpPr>
        <p:spPr>
          <a:xfrm>
            <a:off x="228600" y="571500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The requirements for a majority vote to win in the electoral college favors a -- ?  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Two-party system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Multi-party system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One-party system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The most experienced candidate</a:t>
            </a:r>
            <a:br>
              <a:rPr sz="3500"/>
            </a:b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160" y="26665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D.  Central ownership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4"/>
          <p:cNvSpPr/>
          <p:nvPr/>
        </p:nvSpPr>
        <p:spPr>
          <a:xfrm>
            <a:off x="228600" y="571500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at economic system is based on private ownership of property, profit and individual choice?  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traditional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free market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command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subsistence</a:t>
            </a:r>
            <a:br>
              <a:rPr sz="3500"/>
            </a:b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520" y="28951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B.  Free market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4"/>
          <p:cNvSpPr/>
          <p:nvPr/>
        </p:nvSpPr>
        <p:spPr>
          <a:xfrm>
            <a:off x="228600" y="571500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at is given up when a choice is made---the highest valued alternative forgone?  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Opportunity cost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Price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Competition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Demand</a:t>
            </a:r>
            <a:br>
              <a:rPr sz="2800"/>
            </a:b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520" y="27432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A.  Opportunity Cost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4"/>
          <p:cNvSpPr/>
          <p:nvPr/>
        </p:nvSpPr>
        <p:spPr>
          <a:xfrm>
            <a:off x="228600" y="571500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at are things that incite or motivate and are used to change economic behavior?  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competition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incentive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market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costs</a:t>
            </a:r>
            <a:br>
              <a:rPr sz="3500"/>
            </a:b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80520" y="28195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B.  incentives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4"/>
          <p:cNvSpPr/>
          <p:nvPr/>
        </p:nvSpPr>
        <p:spPr>
          <a:xfrm>
            <a:off x="228600" y="571500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at is the combining of human, natural, capital and entrepreneurship resources to make goods or provide services?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consumption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production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regulation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promotion </a:t>
            </a:r>
            <a:br>
              <a:rPr sz="3500"/>
            </a:b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3160" y="2590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B.  promotion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4"/>
          <p:cNvSpPr/>
          <p:nvPr/>
        </p:nvSpPr>
        <p:spPr>
          <a:xfrm>
            <a:off x="228600" y="571500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All of the following are resources EXCEPT:  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natural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entrepreneurship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capital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Supply and demand </a:t>
            </a:r>
            <a:br>
              <a:rPr sz="3500"/>
            </a:b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160" y="28195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A.  Two-party system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3160" y="33523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D.  Supply and demand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4"/>
          <p:cNvSpPr/>
          <p:nvPr/>
        </p:nvSpPr>
        <p:spPr>
          <a:xfrm>
            <a:off x="228600" y="571500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at is the using of goods and services?  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Consumption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Production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Regulation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Promotion </a:t>
            </a:r>
            <a:br>
              <a:rPr sz="3500"/>
            </a:b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28195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A.  Consumption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4"/>
          <p:cNvSpPr/>
          <p:nvPr/>
        </p:nvSpPr>
        <p:spPr>
          <a:xfrm>
            <a:off x="228600" y="571500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at consists of earnings after all expenses have been paid?  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profit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Competition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pric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Consumer soverignty </a:t>
            </a:r>
            <a:br>
              <a:rPr sz="3500"/>
            </a:b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27432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A.  profit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4"/>
          <p:cNvSpPr/>
          <p:nvPr/>
        </p:nvSpPr>
        <p:spPr>
          <a:xfrm>
            <a:off x="228600" y="571500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Consumers determine through purchases what goods and services will be produced.  This is –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Consumer sovereignty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Supply and demand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Economic flow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Financial capital</a:t>
            </a:r>
            <a:br>
              <a:rPr sz="3500"/>
            </a:b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560" y="281952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A.  Consumer sovereignty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4"/>
          <p:cNvSpPr/>
          <p:nvPr/>
        </p:nvSpPr>
        <p:spPr>
          <a:xfrm>
            <a:off x="228600" y="571500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at is rivalry between producers and sellers of a good or service resulting in better quality of goods and services at a lower price?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partnership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corporation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competition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lobbying </a:t>
            </a:r>
            <a:br>
              <a:rPr sz="3500"/>
            </a:b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80520" y="30481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C.  competition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4"/>
          <p:cNvSpPr/>
          <p:nvPr/>
        </p:nvSpPr>
        <p:spPr>
          <a:xfrm>
            <a:off x="228600" y="571500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at is the amount of a good or service that consumers are willing and able to </a:t>
            </a:r>
            <a:r>
              <a:rPr b="1" i="1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buy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at a certain price?  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demand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supply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pric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profit </a:t>
            </a:r>
            <a:br>
              <a:rPr sz="3500"/>
            </a:b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4"/>
          <p:cNvSpPr/>
          <p:nvPr/>
        </p:nvSpPr>
        <p:spPr>
          <a:xfrm>
            <a:off x="228600" y="571500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All of the following are ways interest groups influence public policy EXCEPT:  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Identifying issue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Making political contribution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Voting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Lobbying government officials </a:t>
            </a:r>
            <a:br>
              <a:rPr sz="3500"/>
            </a:b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80520" y="2437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A.  demand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4"/>
          <p:cNvSpPr/>
          <p:nvPr/>
        </p:nvSpPr>
        <p:spPr>
          <a:xfrm>
            <a:off x="228600" y="571500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at is the amount of a good or service that consumers are willing and able to </a:t>
            </a:r>
            <a:r>
              <a:rPr b="1" i="1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sell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at a certain price?  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demand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supply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pric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profit </a:t>
            </a:r>
            <a:br>
              <a:rPr sz="3500"/>
            </a:b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2437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B.  supply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4"/>
          <p:cNvSpPr/>
          <p:nvPr/>
        </p:nvSpPr>
        <p:spPr>
          <a:xfrm>
            <a:off x="228600" y="571500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y must individuals choose/make decisions about desired goods and services?  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Because they are sufficient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Because they are limited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Because they are marketabl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Because they are plentiful</a:t>
            </a:r>
            <a:br>
              <a:rPr sz="3500"/>
            </a:b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3623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B.  Because they are limited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4"/>
          <p:cNvSpPr/>
          <p:nvPr/>
        </p:nvSpPr>
        <p:spPr>
          <a:xfrm>
            <a:off x="228600" y="571500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br>
              <a:rPr sz="3500"/>
            </a:br>
            <a:br>
              <a:rPr sz="3500"/>
            </a:b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380880" y="58672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Available resources and consumer preferences determine what is  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consumed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produced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promoted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regulated</a:t>
            </a:r>
            <a:br>
              <a:rPr sz="3500"/>
            </a:b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3623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B.  produced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5"/>
          <p:cNvSpPr/>
          <p:nvPr/>
        </p:nvSpPr>
        <p:spPr>
          <a:xfrm>
            <a:off x="380880" y="58672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Consumer preferences and price determine what is 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consumed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produced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purchased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regulated</a:t>
            </a:r>
            <a:br>
              <a:rPr sz="3500"/>
            </a:b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437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C.  purchased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4"/>
          <p:cNvSpPr/>
          <p:nvPr/>
        </p:nvSpPr>
        <p:spPr>
          <a:xfrm>
            <a:off x="380880" y="58672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Private financial institutions encourage saving and investing by --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Paying interest on deposit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Offering credit card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Charging monthly fee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Providing loans</a:t>
            </a:r>
            <a:br>
              <a:rPr sz="3500"/>
            </a:b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29718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C.  Voting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80520" y="2514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A.  Paying interest on deposits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4"/>
          <p:cNvSpPr/>
          <p:nvPr/>
        </p:nvSpPr>
        <p:spPr>
          <a:xfrm>
            <a:off x="380880" y="58672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at promotes and regulates competition?  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Credit union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government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Securities brokerage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individuals </a:t>
            </a:r>
            <a:br>
              <a:rPr sz="3500"/>
            </a:b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B.  government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4"/>
          <p:cNvSpPr/>
          <p:nvPr/>
        </p:nvSpPr>
        <p:spPr>
          <a:xfrm>
            <a:off x="380880" y="58672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at is a form of business organization with one owner who takes all the risks and all the profits?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partnership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proprietorship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entrepreneur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corporation</a:t>
            </a:r>
            <a:br>
              <a:rPr sz="3500"/>
            </a:b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7432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B.  proprietorship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4"/>
          <p:cNvSpPr/>
          <p:nvPr/>
        </p:nvSpPr>
        <p:spPr>
          <a:xfrm>
            <a:off x="380880" y="58672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at is a form of business organization with two or more owners who share the risks and the profits?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partnership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proprietorship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entrepreneur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corporation</a:t>
            </a:r>
            <a:br>
              <a:rPr sz="3500"/>
            </a:b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8951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A.  partnership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4"/>
          <p:cNvSpPr/>
          <p:nvPr/>
        </p:nvSpPr>
        <p:spPr>
          <a:xfrm>
            <a:off x="380880" y="63244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at is a form of business organization that is authorized by law to act as a legal person regardless of the number of owners and where owners share profits?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partnership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proprietorship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entrepreneur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corporation</a:t>
            </a:r>
            <a:br>
              <a:rPr sz="3500"/>
            </a:b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29718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D.  Corporation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4"/>
          <p:cNvSpPr/>
          <p:nvPr/>
        </p:nvSpPr>
        <p:spPr>
          <a:xfrm>
            <a:off x="152280" y="58672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o can take risk to produce goods and services in search of profit and may establish any one of the three types of business structures?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partnership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proprietorship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entrepreneur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corporation</a:t>
            </a:r>
            <a:br>
              <a:rPr sz="3500"/>
            </a:b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4"/>
          <p:cNvSpPr/>
          <p:nvPr/>
        </p:nvSpPr>
        <p:spPr>
          <a:xfrm>
            <a:off x="228600" y="571500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Individuals can express opinions in influencing public policy by doing all of the following EXCEPT: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Lobbying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Demonstrating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Sharing control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Writing letters</a:t>
            </a:r>
            <a:br>
              <a:rPr sz="3500"/>
            </a:b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3160" y="2437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C.  entrepreneur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4"/>
          <p:cNvSpPr/>
          <p:nvPr/>
        </p:nvSpPr>
        <p:spPr>
          <a:xfrm>
            <a:off x="-76320" y="640080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o </a:t>
            </a:r>
            <a:r>
              <a:rPr b="1" i="1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buys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resources, makes products that are sold to individuals, other businesses and the government, and used the profits to buy more resources?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Businesses (producers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service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good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Individuals (households)</a:t>
            </a:r>
            <a:br>
              <a:rPr sz="3500"/>
            </a:b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440" y="26665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A.  Businesses (producers)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5"/>
          <p:cNvSpPr/>
          <p:nvPr/>
        </p:nvSpPr>
        <p:spPr>
          <a:xfrm>
            <a:off x="152280" y="56386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o </a:t>
            </a:r>
            <a:r>
              <a:rPr b="1" i="1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owns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 the resources used in production, sells the resources and uses the income to purchase products?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Businesses (producers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service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goods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Individuals (households)</a:t>
            </a: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520" y="28195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D.  Individuals (households)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4"/>
          <p:cNvSpPr/>
          <p:nvPr/>
        </p:nvSpPr>
        <p:spPr>
          <a:xfrm>
            <a:off x="228600" y="5867280"/>
            <a:ext cx="83818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The government uses legislation to discourage monopolies in order to –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Promote competition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Trade globally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Limit competition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Encourage investments</a:t>
            </a:r>
            <a:br>
              <a:rPr sz="3500"/>
            </a:b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31237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A.  Promote competition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4"/>
          <p:cNvSpPr/>
          <p:nvPr/>
        </p:nvSpPr>
        <p:spPr>
          <a:xfrm>
            <a:off x="152280" y="62485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The government regulates business by using agencies to oversee business practices.  All of the following are agencies EXCEPT:</a:t>
            </a:r>
            <a:br>
              <a:rPr sz="3500"/>
            </a:br>
            <a:br>
              <a:rPr sz="35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 FCC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 EPA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 FTC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  CIA</a:t>
            </a:r>
            <a:br>
              <a:rPr sz="3500"/>
            </a:br>
            <a:br>
              <a:rPr sz="3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4560" y="30481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D.  CIA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4"/>
          <p:cNvSpPr/>
          <p:nvPr/>
        </p:nvSpPr>
        <p:spPr>
          <a:xfrm>
            <a:off x="304920" y="3581280"/>
            <a:ext cx="83818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What does EPA stand for?</a:t>
            </a:r>
            <a:br>
              <a:rPr sz="3500"/>
            </a:br>
            <a:br>
              <a:rPr sz="3500"/>
            </a:b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0T19:42:32Z</dcterms:created>
  <dc:creator>paupulley</dc:creator>
  <dc:description/>
  <dc:language>en-US</dc:language>
  <cp:lastModifiedBy>Deborah L. Welker</cp:lastModifiedBy>
  <dcterms:modified xsi:type="dcterms:W3CDTF">2012-05-25T09:57:20Z</dcterms:modified>
  <cp:revision>27</cp:revision>
  <dc:subject/>
  <dc:title>Civics</dc:title>
</cp:coreProperties>
</file>